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AE-E882-4B32-8811-236BB831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2C7-E779-461B-98FA-5698F383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E14-BEE3-4813-AD4A-3BA5B182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062-012F-48BD-B27E-9D0E6BFF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456-6A8E-48A2-9478-8A1CC750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2035-403B-42A4-9315-F4BD9BF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A6C-F031-4DC8-ADC4-0AFDDB9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0BD-60D1-4F20-93C1-7B6BD52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D05F-D5BF-46B1-A5E1-2296FCFA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4A84-5610-4F70-A593-8790B049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025D-3BCB-437E-B774-53162D2B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211-5E35-407F-8BDB-B81A80AD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CB1B-214B-4D6B-A683-2337824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EF7-F9CF-4D1A-8510-C7F47DE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74A8-A8E9-414E-AFEA-481B0D19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33F2-BA28-41C5-8E12-AADEABB7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A77B-47D7-4287-8B6C-770E50FE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8D0F-6726-4B05-B685-6980C139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3A42-6C70-45DC-B342-88D726B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8A37-8C35-4738-8F60-E6F6A463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1FC3-54B6-44D9-9330-91C304EF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627E-CD9F-4079-966E-901AC0A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C27-FB93-4D7F-806C-54ACC0B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A2C9-63C3-4096-B76F-36B62FFA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E051-7C1B-46F2-929D-0BC58DD4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AAE5-21E3-4C9D-AD6C-4B43434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BDE2-855C-42CA-ADDA-C957219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8745-C2A1-4125-9B99-EF85F8DB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E36A-A82D-452B-BF73-FBC12672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F3191-0CAA-4395-B8B7-1345F921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7CEDA-748D-47A6-8C5D-7E1FB7B6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B96F-883B-43FC-B21B-E6FC7315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6CEE-37B0-4C86-B17D-0DD88D90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A51-7F4A-4757-A738-7AF877A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7F0AE-9FC1-4627-9E50-C5140200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1874-8840-45BE-A943-5B38CC1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D8EE-4C88-489A-928E-129A27E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A3EE-A365-48EF-80EC-AEA94301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B687F-F7A9-494A-9E41-04E60D4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540E-18D9-402C-9572-68D44AAB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2E3F8-A6AF-4933-A498-A9D4EB7F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A6B7-5248-427E-B2BB-12DBC5B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6CC1-D3C7-4329-BAF5-EDD1FA7C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C83BB-BEEE-4173-A4B3-5396353C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3A9-2870-46CB-9418-32D72BBF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7A8AF-45AB-482E-8B11-23407A4E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A8B07-9B00-4B0E-AD2C-A92D106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65C8B-2CA1-487E-A746-91AA59B5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3F2AA-598F-4A9B-A2F8-8E0CC8D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6BF0-7AAC-4211-A16B-CF2C8290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7818-F561-4CA8-81BB-6943389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F7EA-8A17-4152-8C82-8E47D4F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0AB35-E053-4545-BF71-8C163BD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7D370-8080-4DB6-B98B-45F80BD1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F6A7-8336-4AD6-A519-94202AD1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BDB-7EBD-4D3A-8EB7-4F2282F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9DB2-0E58-4DC5-9694-9F92B4D3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2C6-55B5-48B6-BDA5-927A63D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814-BE6F-43FD-9765-4BB02B3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015-A6D2-4504-9045-7A11C91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7E2-6B8E-409F-9F65-CF3D55BB1AF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CE82-5D29-47EF-9B46-E54A08BA37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A4B-1D16-4AE7-BC6E-8B833F3C445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B6F-478C-44C6-8D71-64FEF833DBE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232-FC56-40DB-857A-F579FE4B87A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y; Danny and Dako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; Mrs.Chamb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2438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 symbol for a number we don't know yet. It is usually a letter like x or 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ample: in x + 2 = 6, x is the varia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f it is not a variable it is called a Constant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1800" y="-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sed on 10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the numbers we use in everyday life are decimal numbers, because there are 10 of them (0,1,2,3,4,5,6,7,8 and 9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en "decimal number" is also used to mean a number that uses a decimal point followed by digits as a way of showing values less than one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ample: 1.9 is a decimal number (one and nine ten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umber with no fractional part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cludes the counting numbers {1, 2, 3, ...}, zero {0}, and the negative of the counting numbers {-1, -2, -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can write them down like this: {..., -3, -2, -1, 0, 1, 2, 3, ...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amples of integers: -16, -3, 0, 1, 19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9:30Z</dcterms:created>
  <dc:creator>danny.gilley</dc:creator>
  <dc:description/>
  <dc:language>en-US</dc:language>
  <cp:lastModifiedBy>lucy.chambers</cp:lastModifiedBy>
  <dcterms:modified xsi:type="dcterms:W3CDTF">2010-11-23T14:37:53Z</dcterms:modified>
  <cp:revision>5</cp:revision>
  <dc:subject/>
  <dc:title>vocabulary</dc:title>
</cp:coreProperties>
</file>